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102-88B6-47D7-8036-9769B4EAC80B}" type="slidenum">
              <a:rPr b="1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t’s see basic system information field firs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asic system information shows the following inform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stem field shows a kind of LDK system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 me introduce PC admin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ollowing PC Spec. is required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ease just refer to the requirement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supports 4 kinds of connection type as shown in the pict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S-232C, Analog modem, ISDN, LAN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CD34-88D2-4659-B624-9DEDD577461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78120" y="1571760"/>
            <a:ext cx="53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G-NORTEL TSP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48080" cy="284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384720" cy="2543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1200" y="1522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41200" y="4572000"/>
            <a:ext cx="199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Execute “SETUP.EXE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Click [Next]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568040" y="5181480"/>
            <a:ext cx="432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Select Service Mode, and Type IP Address of ipLDK-6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Click [Next]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28760" y="685800"/>
            <a:ext cx="4071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LG-Nortel T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/W Installati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51200" y="9684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1200" y="1522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51200" y="9684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84720" cy="2546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24080" y="452592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Restart you Compu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4520" y="1974960"/>
            <a:ext cx="647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굴림체"/>
              </a:rPr>
              <a:t>Demo &amp; Practice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953360" y="38466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체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굴림체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체"/>
              </a:rPr>
              <a:t> Party Conn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106920" y="9540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Demo &amp; Practi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50800"/>
            <a:ext cx="839124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1</a:t>
            </a:r>
            <a:r>
              <a:rPr b="1" lang="ko-KR" sz="1400" spc="-1" strike="noStrike" baseline="30000">
                <a:solidFill>
                  <a:srgbClr val="000000"/>
                </a:solidFill>
                <a:latin typeface="Arial"/>
                <a:ea typeface="굴림체"/>
              </a:rPr>
              <a:t>st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party lock key or ez Phone lock key is need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In PGM (126), you can insert IP Address of client computer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Install LG-Nortel TSP. Restart your computer. (Windows 98/2000/XP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pen [Phone and Modem Options] in Control Pane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Country/region , and type area code and a number to access an outside lin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08000" y="9216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43040" y="2971800"/>
            <a:ext cx="2649600" cy="3166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693960" y="2971800"/>
            <a:ext cx="43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28760" y="550800"/>
            <a:ext cx="839124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n the [Advanced] tab under Providers, click [LG-Nortel TAPI Service Provider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lick [Configure…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You can change configurations in this dialo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Verify System IP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Verify Service Mode [1</a:t>
            </a:r>
            <a:r>
              <a:rPr b="1" lang="ko-KR" sz="1400" spc="-1" strike="noStrike" baseline="30000">
                <a:solidFill>
                  <a:srgbClr val="000000"/>
                </a:solidFill>
                <a:latin typeface="Arial"/>
                <a:ea typeface="굴림체"/>
              </a:rPr>
              <a:t>st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Party Connection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9216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855880" cy="316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338472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8760" y="550800"/>
            <a:ext cx="83912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Make a call using Microsoft outlook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Run Microsoft Outloo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[Contact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9216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9680" y="1762200"/>
            <a:ext cx="8324640" cy="2819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28760" y="4221000"/>
            <a:ext cx="8391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Click  phone Tool bar. Click phone dialer op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042920" y="2347920"/>
            <a:ext cx="1944720" cy="24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4941720"/>
            <a:ext cx="3816360" cy="1436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>
            <a:off x="2771640" y="4797360"/>
            <a:ext cx="64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28760" y="550800"/>
            <a:ext cx="83912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Make a call using Microsoft outlook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phone number. Click O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9216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28760" y="3429000"/>
            <a:ext cx="8391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Insert phone number to make and click make a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168720" cy="2355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63640" y="1268280"/>
            <a:ext cx="64764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3960720" cy="1490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92360" y="4149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16000" y="4149720"/>
            <a:ext cx="2664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8760" y="550800"/>
            <a:ext cx="839124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3</a:t>
            </a:r>
            <a:r>
              <a:rPr b="1" lang="ko-KR" sz="1400" spc="-1" strike="noStrike" baseline="30000">
                <a:solidFill>
                  <a:srgbClr val="000000"/>
                </a:solidFill>
                <a:latin typeface="Arial"/>
                <a:ea typeface="굴림체"/>
              </a:rPr>
              <a:t>rd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party lock key is need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n the [Advanced] tab under Providers, click [LG-Nortel TAPI Service Provider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lick [Configure…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Service Mode [3</a:t>
            </a:r>
            <a:r>
              <a:rPr b="1" lang="ko-KR" sz="1400" spc="-1" strike="noStrike" baseline="30000">
                <a:solidFill>
                  <a:srgbClr val="000000"/>
                </a:solidFill>
                <a:latin typeface="Arial"/>
                <a:ea typeface="굴림체"/>
              </a:rPr>
              <a:t>rd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Party Connection]. Click [Apply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Restart your compute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67040" y="921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98320" y="2776680"/>
            <a:ext cx="37450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8760" y="550800"/>
            <a:ext cx="839124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Using Windows 2000/2003 Server and RSP (Remote Service Provid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LG-Nortel TSP is installed on the Windows 2000/2003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pen Telephony. Type tapimgmt.ms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In the console tree, click Telephony Service Provider for LG-Nortel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159120" y="921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9320" y="1747800"/>
          <a:ext cx="252108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747800"/>
                    <a:ext cx="252108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92280" y="3413160"/>
            <a:ext cx="56163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8760" y="550800"/>
            <a:ext cx="839124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Client Comp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pen a Command Prompt wind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ype tcmsetup /c server computer nam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Ex) tcmsetup /c lgtsc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67040" y="10008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56163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8120" y="1886040"/>
            <a:ext cx="4295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PC Spec. Requiremen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Connection Ty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S/W Install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Demo &amp; Practic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62000" y="982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28760" y="550800"/>
            <a:ext cx="839124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Proprietary protocol between server and cli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LG-Nortel TSP is installed on the Windows 2000/2003 Server or Windows 2000 Pro et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roprietary protocol between server and client is u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All of Korean call center maker uses this metho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67040" y="921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HY헤드라인M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 party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40" y="152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28760" y="909720"/>
            <a:ext cx="860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TSP (Telephony Service Provider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Made by Telephony System Vendor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Dynamic Link Library (DLL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The File Extension is *.tsp and the File is stored in System directory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1159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8760" y="3068640"/>
            <a:ext cx="86072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LG-Nortel TSP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Made by LG-Nortel Co.Ltd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The File Name of LG-Nortel TSP is Lgnsp.tsp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The TSP Supports TAPI Version 2.1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1" lang="ko-KR" sz="17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party Connection and 3</a:t>
            </a:r>
            <a:r>
              <a:rPr b="1" lang="ko-KR" sz="17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Party Connection is supported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840" y="152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8760" y="3429000"/>
            <a:ext cx="860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TAPI Applic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Made by S/W Program vendor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Use TAPI functions like lineMakeCall, lineAnsw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Ex) Microsoft Outlook, ez Phone, Call Center Program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50840" y="1000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28760" y="1103400"/>
            <a:ext cx="860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TAPI (Telephony Application Programming Interface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Made by Microsof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Included in Windows 98/2000/XP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TAPI functions (lineMakeCall, lineAnswer etc.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760" y="911160"/>
            <a:ext cx="7572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Server Comput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CPU: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Pentium III 500MHz or high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RAM: 128 MB or high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Available Hard Disk: 500 MB or higher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97560" y="9216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2. PC Spec. 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33440" y="3263760"/>
            <a:ext cx="7572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Client Comput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CPU: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Pentium II 200MHz or high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RAM: 32 MB or highe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"/>
              </a:rPr>
              <a:t>Available Hard Disk: 200 MB or higher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139680" y="921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530360" y="1825560"/>
            <a:ext cx="2057400" cy="3733920"/>
          </a:xfrm>
          <a:prstGeom prst="cube">
            <a:avLst>
              <a:gd name="adj" fmla="val 1067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682640" y="4340160"/>
            <a:ext cx="1600200" cy="457200"/>
          </a:xfrm>
          <a:prstGeom prst="cube">
            <a:avLst>
              <a:gd name="adj" fmla="val 25000"/>
            </a:avLst>
          </a:prstGeom>
          <a:solidFill>
            <a:srgbClr val="e4e4e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GN T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1" name=""/>
          <p:cNvCxnSpPr>
            <a:stCxn id="72" idx="3"/>
            <a:endCxn id="70" idx="1"/>
          </p:cNvCxnSpPr>
          <p:nvPr/>
        </p:nvCxnSpPr>
        <p:spPr>
          <a:xfrm>
            <a:off x="2425320" y="3730320"/>
            <a:ext cx="1080" cy="7246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73" name=""/>
          <p:cNvCxnSpPr>
            <a:stCxn id="74" idx="3"/>
            <a:endCxn id="72" idx="1"/>
          </p:cNvCxnSpPr>
          <p:nvPr/>
        </p:nvCxnSpPr>
        <p:spPr>
          <a:xfrm>
            <a:off x="2425320" y="2664000"/>
            <a:ext cx="1080" cy="724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74" name=""/>
          <p:cNvSpPr/>
          <p:nvPr/>
        </p:nvSpPr>
        <p:spPr>
          <a:xfrm>
            <a:off x="1682640" y="2206800"/>
            <a:ext cx="1600200" cy="4572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I 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682640" y="3273480"/>
            <a:ext cx="1600200" cy="457200"/>
          </a:xfrm>
          <a:prstGeom prst="cube">
            <a:avLst>
              <a:gd name="adj" fmla="val 25000"/>
            </a:avLst>
          </a:prstGeom>
          <a:solidFill>
            <a:srgbClr val="e4e4e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I v2.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106720" y="147780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I Cli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2805120" y="5559480"/>
            <a:ext cx="106668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0"/>
                </a:moveTo>
                <a:cubicBezTo>
                  <a:pt x="92" y="108"/>
                  <a:pt x="184" y="216"/>
                  <a:pt x="288" y="240"/>
                </a:cubicBezTo>
                <a:cubicBezTo>
                  <a:pt x="392" y="264"/>
                  <a:pt x="520" y="128"/>
                  <a:pt x="624" y="144"/>
                </a:cubicBezTo>
                <a:cubicBezTo>
                  <a:pt x="728" y="160"/>
                  <a:pt x="856" y="312"/>
                  <a:pt x="912" y="336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2360520" y="5254560"/>
            <a:ext cx="97812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8" name=""/>
          <p:cNvCxnSpPr>
            <a:endCxn id="77" idx="0"/>
          </p:cNvCxnSpPr>
          <p:nvPr/>
        </p:nvCxnSpPr>
        <p:spPr>
          <a:xfrm flipH="1">
            <a:off x="2849040" y="4797360"/>
            <a:ext cx="151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41760" y="5373720"/>
            <a:ext cx="1001520" cy="988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28760" y="909720"/>
            <a:ext cx="8607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Structure (1</a:t>
            </a:r>
            <a:r>
              <a:rPr b="1" lang="ko-KR" sz="1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Party Connection)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106720" y="147780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I Cli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22520" y="501012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1522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62040"/>
            <a:ext cx="80917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Part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PC is connected to the ipLDK-60 system via LAN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PC User can use the keyset assigned by Admin PGM (126).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LG-Nortel TSP is installed on the Client Computer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Windows 98 or higher is available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921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52560" y="3848040"/>
            <a:ext cx="2209680" cy="1261440"/>
            <a:chOff x="952560" y="3848040"/>
            <a:chExt cx="2209680" cy="1261440"/>
          </a:xfrm>
        </p:grpSpPr>
        <p:grpSp>
          <p:nvGrpSpPr>
            <p:cNvPr id="87" name=""/>
            <p:cNvGrpSpPr/>
            <p:nvPr/>
          </p:nvGrpSpPr>
          <p:grpSpPr>
            <a:xfrm>
              <a:off x="952560" y="3890880"/>
              <a:ext cx="2209320" cy="1218600"/>
              <a:chOff x="952560" y="3890880"/>
              <a:chExt cx="2209320" cy="1218600"/>
            </a:xfrm>
          </p:grpSpPr>
          <p:sp>
            <p:nvSpPr>
              <p:cNvPr id="88" name=""/>
              <p:cNvSpPr/>
              <p:nvPr/>
            </p:nvSpPr>
            <p:spPr>
              <a:xfrm>
                <a:off x="1354320" y="3890880"/>
                <a:ext cx="1272240" cy="609120"/>
              </a:xfrm>
              <a:prstGeom prst="ellipse">
                <a:avLst/>
              </a:prstGeom>
              <a:solidFill>
                <a:srgbClr val="9991fd"/>
              </a:solidFill>
              <a:ln cap="sq" w="12600">
                <a:solidFill>
                  <a:srgbClr val="9991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89640" y="4119120"/>
                <a:ext cx="1272240" cy="609120"/>
              </a:xfrm>
              <a:prstGeom prst="ellipse">
                <a:avLst/>
              </a:prstGeom>
              <a:solidFill>
                <a:srgbClr val="9991fd"/>
              </a:solidFill>
              <a:ln cap="sq" w="12600">
                <a:solidFill>
                  <a:srgbClr val="9991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56080" y="4500000"/>
                <a:ext cx="1272240" cy="609480"/>
              </a:xfrm>
              <a:prstGeom prst="ellipse">
                <a:avLst/>
              </a:prstGeom>
              <a:solidFill>
                <a:srgbClr val="9991fd"/>
              </a:solidFill>
              <a:ln cap="sq" w="12600">
                <a:solidFill>
                  <a:srgbClr val="9991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20400" y="4500000"/>
                <a:ext cx="1271880" cy="609480"/>
              </a:xfrm>
              <a:prstGeom prst="ellipse">
                <a:avLst/>
              </a:prstGeom>
              <a:solidFill>
                <a:srgbClr val="9991fd"/>
              </a:solidFill>
              <a:ln cap="sq" w="12600">
                <a:solidFill>
                  <a:srgbClr val="9991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52560" y="4195440"/>
                <a:ext cx="1272240" cy="609120"/>
              </a:xfrm>
              <a:prstGeom prst="ellipse">
                <a:avLst/>
              </a:prstGeom>
              <a:solidFill>
                <a:srgbClr val="9991fd"/>
              </a:solidFill>
              <a:ln cap="sq" w="12600">
                <a:solidFill>
                  <a:srgbClr val="9991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87000" y="4042800"/>
                <a:ext cx="1607040" cy="914040"/>
              </a:xfrm>
              <a:prstGeom prst="ellipse">
                <a:avLst/>
              </a:prstGeom>
              <a:solidFill>
                <a:srgbClr val="9991fd"/>
              </a:solidFill>
              <a:ln cap="sq" w="12600">
                <a:solidFill>
                  <a:srgbClr val="9991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181160" y="384804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LGN TSP installed(1</a:t>
              </a:r>
              <a:r>
                <a:rPr b="1" lang="en-US" sz="1200" spc="-1" strike="noStrike" baseline="30000">
                  <a:solidFill>
                    <a:srgbClr val="ccccff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cccc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61600" y="574524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s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KT/SL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259280" y="5008680"/>
            <a:ext cx="114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ndow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/2000/X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3440" y="4043520"/>
            <a:ext cx="1447560" cy="1011240"/>
            <a:chOff x="1333440" y="4043520"/>
            <a:chExt cx="1447560" cy="1011240"/>
          </a:xfrm>
        </p:grpSpPr>
        <p:sp>
          <p:nvSpPr>
            <p:cNvPr id="98" name=""/>
            <p:cNvSpPr/>
            <p:nvPr/>
          </p:nvSpPr>
          <p:spPr>
            <a:xfrm>
              <a:off x="1562040" y="4237200"/>
              <a:ext cx="736560" cy="49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1333440" y="4043520"/>
            <a:ext cx="1447560" cy="101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3440" y="4043520"/>
                      <a:ext cx="144756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"/>
          <p:cNvSpPr/>
          <p:nvPr/>
        </p:nvSpPr>
        <p:spPr>
          <a:xfrm>
            <a:off x="3505320" y="5186520"/>
            <a:ext cx="1790640" cy="22860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720" y="192"/>
                </a:lnTo>
                <a:lnTo>
                  <a:pt x="720" y="0"/>
                </a:lnTo>
              </a:path>
            </a:pathLst>
          </a:custGeom>
          <a:noFill/>
          <a:ln cap="sq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141720"/>
            <a:ext cx="6120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886360" y="3141720"/>
            <a:ext cx="91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3141720"/>
            <a:ext cx="0" cy="8636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3152880"/>
            <a:ext cx="0" cy="9237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861080" y="4149720"/>
            <a:ext cx="10015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39680" y="921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909720"/>
            <a:ext cx="81057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Structure (3</a:t>
            </a:r>
            <a:r>
              <a:rPr b="1" lang="ko-KR" sz="1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Party Connection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4" marL="18288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265640" y="1825560"/>
            <a:ext cx="2035080" cy="3733920"/>
          </a:xfrm>
          <a:prstGeom prst="cube">
            <a:avLst>
              <a:gd name="adj" fmla="val 1067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805040" y="1825560"/>
            <a:ext cx="2057400" cy="3733920"/>
          </a:xfrm>
          <a:prstGeom prst="cube">
            <a:avLst>
              <a:gd name="adj" fmla="val 1067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2" name=""/>
          <p:cNvCxnSpPr>
            <a:stCxn id="113" idx="3"/>
            <a:endCxn id="114" idx="1"/>
          </p:cNvCxnSpPr>
          <p:nvPr/>
        </p:nvCxnSpPr>
        <p:spPr>
          <a:xfrm>
            <a:off x="5160600" y="2664000"/>
            <a:ext cx="1080" cy="724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4417920" y="4340160"/>
            <a:ext cx="816120" cy="4572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P v2.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4417920" y="3273480"/>
            <a:ext cx="1600200" cy="457200"/>
          </a:xfrm>
          <a:prstGeom prst="cube">
            <a:avLst>
              <a:gd name="adj" fmla="val 25000"/>
            </a:avLst>
          </a:prstGeom>
          <a:solidFill>
            <a:srgbClr val="e4e4e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I v2.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417920" y="2206800"/>
            <a:ext cx="1600200" cy="4572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I 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76840" y="37303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450040" y="5559480"/>
            <a:ext cx="106668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0"/>
                </a:moveTo>
                <a:cubicBezTo>
                  <a:pt x="92" y="108"/>
                  <a:pt x="184" y="216"/>
                  <a:pt x="288" y="240"/>
                </a:cubicBezTo>
                <a:cubicBezTo>
                  <a:pt x="392" y="264"/>
                  <a:pt x="520" y="128"/>
                  <a:pt x="624" y="144"/>
                </a:cubicBezTo>
                <a:cubicBezTo>
                  <a:pt x="728" y="160"/>
                  <a:pt x="856" y="312"/>
                  <a:pt x="912" y="336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5005440" y="5254560"/>
            <a:ext cx="977760" cy="276480"/>
          </a:xfrm>
          <a:prstGeom prst="rect">
            <a:avLst/>
          </a:prstGeom>
          <a:solidFill>
            <a:srgbClr val="cc99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20" idx="3"/>
            <a:endCxn id="118" idx="0"/>
          </p:cNvCxnSpPr>
          <p:nvPr/>
        </p:nvCxnSpPr>
        <p:spPr>
          <a:xfrm flipH="1">
            <a:off x="5493960" y="4797360"/>
            <a:ext cx="15120" cy="457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20" name=""/>
          <p:cNvSpPr/>
          <p:nvPr/>
        </p:nvSpPr>
        <p:spPr>
          <a:xfrm>
            <a:off x="5157720" y="4340160"/>
            <a:ext cx="816120" cy="45720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GN T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508720" y="3730680"/>
            <a:ext cx="30240" cy="7063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957320" y="4340160"/>
            <a:ext cx="1600200" cy="457200"/>
          </a:xfrm>
          <a:prstGeom prst="cube">
            <a:avLst>
              <a:gd name="adj" fmla="val 25000"/>
            </a:avLst>
          </a:prstGeom>
          <a:solidFill>
            <a:srgbClr val="e4e4e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3" name=""/>
          <p:cNvCxnSpPr>
            <a:stCxn id="124" idx="3"/>
            <a:endCxn id="122" idx="1"/>
          </p:cNvCxnSpPr>
          <p:nvPr/>
        </p:nvCxnSpPr>
        <p:spPr>
          <a:xfrm>
            <a:off x="2700000" y="3730320"/>
            <a:ext cx="1080" cy="7246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25" name=""/>
          <p:cNvCxnSpPr>
            <a:stCxn id="122" idx="5"/>
            <a:endCxn id="114" idx="2"/>
          </p:cNvCxnSpPr>
          <p:nvPr/>
        </p:nvCxnSpPr>
        <p:spPr>
          <a:xfrm flipV="1">
            <a:off x="3557520" y="3558600"/>
            <a:ext cx="861120" cy="952920"/>
          </a:xfrm>
          <a:prstGeom prst="bentConnector3">
            <a:avLst>
              <a:gd name="adj1" fmla="val 49979"/>
            </a:avLst>
          </a:prstGeom>
          <a:ln cap="sq"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786840" y="44928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7" name=""/>
          <p:cNvCxnSpPr>
            <a:stCxn id="128" idx="3"/>
            <a:endCxn id="124" idx="1"/>
          </p:cNvCxnSpPr>
          <p:nvPr/>
        </p:nvCxnSpPr>
        <p:spPr>
          <a:xfrm>
            <a:off x="2700000" y="2664000"/>
            <a:ext cx="1080" cy="724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1957320" y="2206800"/>
            <a:ext cx="1600200" cy="4572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I 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957320" y="3273480"/>
            <a:ext cx="1600200" cy="457200"/>
          </a:xfrm>
          <a:prstGeom prst="cube">
            <a:avLst>
              <a:gd name="adj" fmla="val 25000"/>
            </a:avLst>
          </a:prstGeom>
          <a:solidFill>
            <a:srgbClr val="e4e4e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I v2.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381400" y="147780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I Cli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4637880" y="14778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I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5300640"/>
            <a:ext cx="10015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76480" y="51055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52800" y="396252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1522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860640" y="765000"/>
            <a:ext cx="52833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ko-KR" sz="1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Party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Server/Client Structure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The TSP is installed on the Server Computer (Windows 2000/2003 Server).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The Server assigns the lines to clients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Client Computers use RSP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굴림"/>
              </a:rPr>
              <a:t>(Remote Service Provider) or Proprietary protocol .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00080" y="921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26600" y="2633760"/>
            <a:ext cx="208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ndow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/2003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3860640"/>
            <a:ext cx="676440" cy="3733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720" y="192"/>
                </a:lnTo>
                <a:lnTo>
                  <a:pt x="720" y="0"/>
                </a:lnTo>
              </a:path>
            </a:pathLst>
          </a:custGeom>
          <a:noFill/>
          <a:ln cap="sq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60640"/>
            <a:ext cx="897120" cy="15163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720" y="192"/>
                </a:lnTo>
                <a:lnTo>
                  <a:pt x="720" y="0"/>
                </a:lnTo>
              </a:path>
            </a:pathLst>
          </a:custGeom>
          <a:noFill/>
          <a:ln cap="sq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01760" y="981000"/>
            <a:ext cx="0" cy="4824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1880" y="1643040"/>
            <a:ext cx="1676160" cy="914040"/>
            <a:chOff x="461880" y="1643040"/>
            <a:chExt cx="1676160" cy="914040"/>
          </a:xfrm>
        </p:grpSpPr>
        <p:sp>
          <p:nvSpPr>
            <p:cNvPr id="142" name=""/>
            <p:cNvSpPr/>
            <p:nvPr/>
          </p:nvSpPr>
          <p:spPr>
            <a:xfrm>
              <a:off x="766440" y="1643040"/>
              <a:ext cx="965160" cy="45684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72880" y="1814400"/>
              <a:ext cx="965160" cy="45684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71360" y="2099880"/>
              <a:ext cx="965160" cy="45720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4920" y="2099880"/>
              <a:ext cx="965160" cy="45720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880" y="1871640"/>
              <a:ext cx="965160" cy="45684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680" y="1757160"/>
              <a:ext cx="1219320" cy="685800"/>
            </a:xfrm>
            <a:prstGeom prst="ellipse">
              <a:avLst/>
            </a:prstGeom>
            <a:solidFill>
              <a:srgbClr val="9991fd"/>
            </a:solidFill>
            <a:ln cap="sq" w="12600">
              <a:solidFill>
                <a:srgbClr val="999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61880" y="14907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LGN TSP installed(3</a:t>
            </a:r>
            <a:r>
              <a:rPr b="1" lang="en-US" sz="1200" spc="-1" strike="noStrike" baseline="30000">
                <a:solidFill>
                  <a:srgbClr val="cccc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2100240"/>
            <a:ext cx="5331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409680" y="3624120"/>
            <a:ext cx="5331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09680" y="4767120"/>
            <a:ext cx="5331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988360" y="25653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08680" y="395928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ndow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/2000/X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45400" y="507204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ndow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/2000/X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1755360" y="4309920"/>
            <a:ext cx="144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s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KT, SL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9040" y="5483160"/>
            <a:ext cx="144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s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KT, SL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69960" y="1719360"/>
          <a:ext cx="137160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1719360"/>
                    <a:ext cx="13716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59280" y="29718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903240" y="3471840"/>
            <a:ext cx="480960" cy="3207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66800" y="3343320"/>
          <a:ext cx="94464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800" y="3343320"/>
                    <a:ext cx="9446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03240" y="4618080"/>
            <a:ext cx="480960" cy="3207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6800" y="4489560"/>
          <a:ext cx="94464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800" y="4489560"/>
                    <a:ext cx="9446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95280" y="1125360"/>
            <a:ext cx="3240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1125360"/>
            <a:ext cx="0" cy="19432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3059280" y="2924280"/>
            <a:ext cx="10015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ldk1248</cp:lastModifiedBy>
  <dcterms:modified xsi:type="dcterms:W3CDTF">2006-11-23T08:47:03Z</dcterms:modified>
  <cp:revision>139</cp:revision>
  <dc:subject/>
  <dc:title>PowerPoint 프레젠테이션</dc:title>
</cp:coreProperties>
</file>